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F08-D191-412E-B62A-C77537D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64B-7FB2-4BE0-81C8-2FAD7E56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D60-FFE5-4973-8AFA-C9C61946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C29-D0C6-41D9-8D7C-90D29344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A7C-BF02-4C89-BB89-E578C82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47B-916A-4F76-96CD-8181C3A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26B-EC14-49BB-82F0-54AD047B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3FF-915C-4344-8BB4-87E545DC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810-049B-45A0-B333-5CE5C11B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550-2FA7-4E42-983B-CAF9ED9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720-0CE3-4D71-8989-39AFEE3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DC6-8B20-46E4-98F5-940F35E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F05-407B-4551-8467-1BD08B14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5328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uasive Techniques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d In Commercials /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W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tells viewers / readers that everyone uses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buy the product (believe in the idea) because they want to fi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assume that if others buy it/idea, the product/idea must be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7760" y="152388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1680" y="15238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231624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EBRITY ENDOR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/ idea shows a popular celebrity promoting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/ readers transfer the respect or admiration they have for the celebrity to the idea/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5480" y="16765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0280" y="16765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OTIONAL APP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3962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echnique is intended to make viewers / readers feel certain emotions, such as happiness, sadness, guilt, or exci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0" y="22096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viewers / readers feel good about the idea /product, they may transfer that feeling to the idea /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16398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8000" y="16002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48240" y="4172040"/>
            <a:ext cx="247644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OR / SAT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0240" y="20570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s remember the idea/ product and the com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s associate a positive feeling with the idea /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0"/>
            <a:ext cx="4267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echnique is intended to make the audience / readers laugh.  It often gives little information about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6765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57600" y="4819680"/>
            <a:ext cx="1666800" cy="20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VID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TI-BANDWAG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6002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209680"/>
            <a:ext cx="4038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feel that if they buy the idea/product, they are expressing their individ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perceive the idea/product as unique, stylish, or “coo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286000"/>
            <a:ext cx="4038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tells viewers / readers to think differently; celebrate their own style; and rebel against what everyone else is saying, doing, or bu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523880"/>
            <a:ext cx="403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Calling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COMPARISON - in counter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echnique features a comparison between the product / ideas and its competition.  It depicts the competition as being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question the quality of the competing product /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believe that the featured idea product is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55760" y="1636560"/>
            <a:ext cx="313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5480" y="15271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5360" y="15271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Loaded Languag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R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is filled with words that have positive connotations attached to them, such as “tasty” or “sensationa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ds make the idea/ product seem more desi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ds appeal to the viewer’s / reader’s emotions, rather than their r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1440" y="167652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71640" y="16765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828800" cy="1003320"/>
          </a:xfrm>
          <a:prstGeom prst="rect">
            <a:avLst/>
          </a:prstGeom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needs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 to connect your ne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ment with the writ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95680" cy="1949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733920" cy="1428840"/>
          </a:xfrm>
          <a:prstGeom prst="rect">
            <a:avLst/>
          </a:prstGeom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</p:pic>
      <p:sp>
        <p:nvSpPr>
          <p:cNvPr id="87" name=""/>
          <p:cNvSpPr/>
          <p:nvPr/>
        </p:nvSpPr>
        <p:spPr>
          <a:xfrm>
            <a:off x="4343400" y="518148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This example came from an ad for a low fat frozen dinner. What basic need does it appeal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6:31:06Z</dcterms:created>
  <dc:creator>student</dc:creator>
  <dc:description/>
  <dc:language>en-US</dc:language>
  <cp:lastModifiedBy>San Diego City Schools</cp:lastModifiedBy>
  <dcterms:modified xsi:type="dcterms:W3CDTF">2011-11-28T16:57:19Z</dcterms:modified>
  <cp:revision>23</cp:revision>
  <dc:subject/>
  <dc:title>Persuasive Techniques Used In Commercials</dc:title>
</cp:coreProperties>
</file>